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956-DD3D-491A-8003-E24E3E7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39A-FD0C-4ED2-A4BE-189AA94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061-6D65-4D13-80D1-971DCC66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161-5AEF-4CC2-8CEC-09C05E86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A9E-EBB2-4B26-A1A2-32F8793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0EF-72D0-4810-A5C5-9600877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B5-B452-48C3-BB56-4B26908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637-A434-4DA0-8D50-6401C40A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775-349B-4DEB-9092-252DF83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7DD-59EC-42D9-B4A2-69FCDD3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6F2-516A-4A52-A9ED-C14F5F4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D53-C544-45D3-9014-2634444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D51-64B4-490D-ACB4-A15678E5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70360" cy="640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9880" y="290520"/>
            <a:ext cx="4876920" cy="287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106668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5054760" cy="293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2209680"/>
            <a:ext cx="2514600" cy="1828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525680"/>
            <a:ext cx="9036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21040" y="0"/>
            <a:ext cx="53229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8734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1143000"/>
            <a:ext cx="1981440" cy="304920"/>
          </a:xfrm>
          <a:prstGeom prst="rightArrow">
            <a:avLst>
              <a:gd name="adj1" fmla="val 50000"/>
              <a:gd name="adj2" fmla="val 162456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858000" cy="369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1928880" cy="596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6668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7010280" cy="582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1901880" cy="588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220968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6629400" cy="625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94796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220968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33920" y="2743200"/>
            <a:ext cx="1981080" cy="1447920"/>
          </a:xfrm>
          <a:prstGeom prst="hexagon">
            <a:avLst>
              <a:gd name="adj" fmla="val 3420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559240" cy="161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916360" cy="396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1270080" y="153684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4267080" cy="138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648320" y="5105520"/>
            <a:ext cx="44956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828800" y="152280"/>
            <a:ext cx="3446640" cy="21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4419720" y="2286000"/>
            <a:ext cx="3045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04812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733560" y="3809880"/>
            <a:ext cx="2286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91120"/>
            <a:ext cx="838080" cy="914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10080" y="2819160"/>
            <a:ext cx="6858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0:57:39Z</dcterms:created>
  <dc:creator>chhoteka khiev</dc:creator>
  <dc:description/>
  <dc:language>en-US</dc:language>
  <cp:lastModifiedBy>chhoteka khiev</cp:lastModifiedBy>
  <dcterms:modified xsi:type="dcterms:W3CDTF">2012-03-29T01:52:03Z</dcterms:modified>
  <cp:revision>11</cp:revision>
  <dc:subject/>
  <dc:title>PowerPoint Presentation</dc:title>
</cp:coreProperties>
</file>